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0DC-C8B6-4CD9-80EB-CE0DBA19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4AA-A9AA-4BDE-B038-86D9842A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C4E-0135-46A7-AEC3-C2BAD0E2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3B4-6824-4F17-89AF-286DAF02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6CC-50D9-4915-9146-9D2E0E89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4EF-B0AD-4E2D-ADBF-BA7B7ED9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0EA-91AB-4228-BACB-8A3F4D9D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DF0-FF4B-40F9-A473-E88C9121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881-DD2F-4ED8-8CFF-8A551137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9C3-C43A-4B45-BE4E-ED461EF7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910-0A0F-4557-8C30-925CE7D3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BCE-8E4C-4538-94B6-F704653E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982B-A486-4E87-95D4-BD9C5E7A7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 D’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0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01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1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0" y="53352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763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7242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4100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81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952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386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24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4100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81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952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6386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0" y="1219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763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63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6324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58672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763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63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763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0" y="5410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0" y="5638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63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763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0" y="5181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63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0" y="4952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0" y="47242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352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à réali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1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0" y="4727520"/>
            <a:ext cx="15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ersonnes concer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8672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095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0" y="6094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J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0" y="6095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0" y="662940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30600" y="4952880"/>
            <a:ext cx="87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nsul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600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01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1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0" y="1600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763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981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0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1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0" y="1981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63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362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1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4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0" y="2362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763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743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0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1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0" y="2743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63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124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0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1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1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0" y="3124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63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505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01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1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0" y="3505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763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886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0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01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1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15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38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0" y="3886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763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267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4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0" y="4267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62940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mité de pilotage (X) dans les cases correspond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</dc:creator>
  <dc:description/>
  <dc:language>en-US</dc:language>
  <cp:lastModifiedBy>rochas</cp:lastModifiedBy>
  <cp:lastPrinted>2000-05-11T10:17:14Z</cp:lastPrinted>
  <dcterms:modified xsi:type="dcterms:W3CDTF">2004-04-01T13:42:18Z</dcterms:modified>
  <cp:revision>70</cp:revision>
  <dc:subject/>
  <dc:title>Contrôle interne des risques</dc:title>
</cp:coreProperties>
</file>